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72A-A2D0-4705-8891-F80B810D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A1A-CC8F-4AE9-8A6D-96E4A1A8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F3E-53F0-48C2-8794-61FD500A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0ED-8544-4C5E-A4A5-EE460D8A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847-A4E9-4655-873C-E5A1B01D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61C-7A18-4505-B32C-BA7ABE9F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A51-3728-4C0E-8187-ED5B610E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60A-FF93-4058-AC06-56203234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39C-FE76-4ED0-87E8-D898450C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036-EF05-423D-8336-B7C4FB36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8F3-B319-4C35-AFD8-9F9FD14F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A5A-148B-432A-97F4-E69C8F16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60C1-C628-4923-82EE-EEBE60DFE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228600"/>
            <a:ext cx="51814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our schoo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4572000"/>
            <a:ext cx="4572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y jourd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3" name="logo1" descr=""/>
          <p:cNvPicPr/>
          <p:nvPr/>
        </p:nvPicPr>
        <p:blipFill>
          <a:blip r:embed="rId1"/>
          <a:stretch/>
        </p:blipFill>
        <p:spPr>
          <a:xfrm>
            <a:off x="3662280" y="2362320"/>
            <a:ext cx="181944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 tea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rs Willi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Da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rs Rob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Di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J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St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Har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Matth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J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r rob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s At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.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y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w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pa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t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89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school is Glenb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primar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8:20:42Z</dcterms:created>
  <dc:creator>Glenboi</dc:creator>
  <dc:description/>
  <dc:language>en-US</dc:language>
  <cp:lastModifiedBy>Glenboi</cp:lastModifiedBy>
  <dcterms:modified xsi:type="dcterms:W3CDTF">2009-09-30T08:49:24Z</dcterms:modified>
  <cp:revision>3</cp:revision>
  <dc:subject/>
  <dc:title>PowerPoint Presentation</dc:title>
</cp:coreProperties>
</file>